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FDB-5B33-4068-8855-4E63E8FE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3A8-4178-4EB3-998C-DCCAC8B6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DE21F-ACD6-4C36-85B5-3D18180B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DD65F-1D37-4CA0-8792-188286D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3405C-2FBD-464C-A807-EFAD186D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8E987-983C-4516-A33F-F7F8CD32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5CAB5-E002-4B35-B6D6-E84A150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23225-07CB-468B-831C-A35F477D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966C8-051A-44A8-B493-DF98515D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331F6-2EBC-4B08-A2DB-BF99A293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BDB5E-6BEE-40AC-A138-6F6FD223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A66-E95C-4F71-BFC2-81A6BC13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D70-ABC5-4DF2-B198-3D61C0C4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1F6C-38FF-4AB2-946B-75511AEF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DCF3-46D8-4D1A-8935-BA09A37D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7E982-4842-4B80-B32E-6F3F6781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FE7FC-DFE3-4B6E-8517-D5E354B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2E2E-7EF5-4A85-ACDD-68607BA6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E297-AC24-47E6-B2E3-1A3FF2C7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2997-DF04-4A03-8568-A60731DA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E54-0492-46F7-AAF0-A5F9CF8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55BF6-3CA8-41B6-84D9-8EEEB4E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04D1-CCBA-454B-BCDB-7B267E7E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513DF-4DE5-4B8D-89D3-F62A5C24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8B4D0-344B-464F-A2E0-34ABB79E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4DED7-2716-466B-9B87-4C408FC3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918C5-0B8F-4175-8F6C-029A2328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3EFD6-AADA-4B2A-9B84-D116EE09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A1C5-5EF7-4ADA-9788-48B0CA93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A1C2-4C49-4805-9EB6-2C368898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08A2-1C27-401E-B4CB-F56AFE23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DD8-D6F4-4D88-AD9A-DA1ACCBB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36E1-47B2-40D9-A3C3-C82B5CB7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9ABA-C014-4366-891F-43E8EB14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8A0B2-C05D-4A2D-9B63-B1CD94E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D50C-60D0-41E0-AEB8-ABFD8BD1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092A-9972-4CB8-B28B-83FE1B9C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A4F7-AB9C-465B-A1E1-6938649D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4FC2-68ED-4C5D-A465-9FC2DD66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F9E7F-FF89-4E3C-84D0-3002BB70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F3E31-515C-4B5C-8AAA-AE84A559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3545DE-3C1B-4FD3-AF74-E9D674E8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6E3-268A-477B-AE8C-E1C3113C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B04DC-53B2-42ED-B94B-A5DAE7A1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49F43-9B8C-4EED-9095-89644DB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BF280-03DD-426F-A1F2-22648ED5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6BAD94-4B16-47C5-9995-3E0BD15E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40919-1A56-4030-B667-8B352F54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A2470-6187-44F7-BD8C-1FB54D95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F5997-BB88-4C2E-A72D-2959166A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82218-FD0C-45DB-B519-4D4CA35A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5ABEF-C18A-417A-B913-9F156A60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F8AF-CF51-436D-8949-DEFA2436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876A-2027-49F6-B488-1623A1C8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34F35-F2AD-4532-8346-90C126F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9C6C-0A3D-4742-B654-3EDC341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BF99-FA34-4BE6-8775-31E29AD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1643-259F-4F95-B2E9-B75EFB8A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74449-7A9B-49A9-A480-4CA658EE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37224-E218-4DF8-8CA3-1EA9971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E468-D1B0-4AFE-9A57-7331FD9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50B8-412C-4AF4-BF3B-CACA63B4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557BE-0570-411F-B749-E7D056CF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B4700-7DE3-43D0-91E3-1AEB6266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3AE9-C6D6-4838-8CF2-6E0240CE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52155-F73E-48FC-9B3E-6B7EFDD2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0F56FA-CA92-4ABB-801A-008E6B3D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2BB42-F5A9-4DFC-9FB9-51224653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B3EE4-1E7B-4525-A1AF-199451E8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9C583-BCDE-458F-BE5B-84B39EF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4A91A-66EA-4293-8985-F4B074AD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9D339C-6657-426E-9287-5B59B211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5423A6-B106-4C24-B913-812D4130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E3044-22A4-4D9B-9F35-03B204E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E535D-97A7-4E49-BA34-2C032C6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153-7448-49BB-8680-04B5356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FE44F-2DEE-4713-963B-D7360FF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FB409C-63D4-46D1-9B71-DF3FBD13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7E959-533D-472E-BBF1-29F295B3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BCD86-6987-421B-8746-3A7F6F20C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B63D9-9486-4E76-B61D-E4BAD19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65C4-9234-44F7-A6EE-E778B713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3C6F2-2D3D-472C-A575-08E3AF36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B01BD-7FF0-44A3-B67C-05A3478B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E007-4051-4655-BE02-56D3460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7BDA-F917-41AC-86C0-297D4F96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629-2152-4CF1-AA80-C59B39C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B5213-FDCB-4540-A77B-04EE317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6AF0E-BB63-4204-BD29-782EC97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FE7EA-F63D-4544-955D-9299FDB8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43503-F400-4F2E-95EC-38EF1A43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8DE6F-476D-4C8D-AC8C-E043182E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84C6-A176-4352-9CFB-E9A3680D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DC8C5-C965-4F69-A74F-A82E49DE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B4780-2D97-4E61-9E5C-64C23A53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799A0-2BAF-4273-8CD5-CC9070C3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7537-66AA-4716-A5D2-996244A1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4B8-3E96-44B4-BACB-17828223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8AD0A-B29F-4559-B258-9760BA0E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05F7A-A3B0-42BA-889B-7545346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3DCFC-C2F3-48FF-8F0B-04F5C692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EB0C-ED23-4CA3-AFE8-4244B360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66692-5600-45BE-9C80-3F11BD32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1029-CF43-411B-8882-54B97CBED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C6018-B5BE-46D1-8A88-E42A476E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CFDD8-CD39-43BA-B05B-CB620598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5A1CA-2380-48B5-942E-DA6F1DFE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0132A-5E23-40F8-AC3F-2C846E0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3327-CFE5-4AAA-9231-A70ED8711C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761F-87A0-48B9-9ECB-0779E9EF87DA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DA3D-C6A8-47A0-90EC-19A79B908AA4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A7D-B150-46E0-956B-13BB69647431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B8A5-B3A0-4DDC-A010-B6DB6A6E778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07E6-29A0-4AD5-AE70-D5AC991D79A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FB2A-6A42-4486-85F1-DE48EC1E95A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E2FA-8F4A-42A5-89ED-D1F4182C18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1E65-0269-459B-8177-0174368575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1774-FC3D-408B-A9DB-371FF31B06CB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EB82-1555-4824-823B-D1F2ED143DAD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dc3"/>
                </a:solidFill>
                <a:latin typeface="Tw Cen MT"/>
              </a:rPr>
              <a:t>LEARNER AND TEACHER AUTONOMY IN LANGUAGE EDUCATION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KWOK Chee Ying Henry 10401474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M Yan Yin Felix 1040121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U Tik Sang Dickson 09401482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EE Chi Leung Edmund 10401237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TAM Ming Sum Sammy 0940149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33440" y="17442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512720" y="2421000"/>
            <a:ext cx="179892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457440" y="2421000"/>
            <a:ext cx="187164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ree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hei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3457440" y="3933720"/>
            <a:ext cx="187164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pacity to gr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earn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51272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ble 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72000" y="2421000"/>
            <a:ext cx="180036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er-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547200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b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no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1511280" y="1773360"/>
            <a:ext cx="5761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romote learner autonom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s may need to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 flipH="1">
            <a:off x="1727280" y="5373720"/>
            <a:ext cx="4897440" cy="936720"/>
          </a:xfrm>
          <a:custGeom>
            <a:avLst/>
            <a:gdLst>
              <a:gd name="textAreaLeft" fmla="*/ 1007280 w 4897440"/>
              <a:gd name="textAreaRight" fmla="*/ 3387600 w 489744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-2959596"/>
                <a:lnTo>
                  <a:pt x="21092" y="7199"/>
                </a:lnTo>
                <a:lnTo>
                  <a:pt x="18578" y="0"/>
                </a:lnTo>
                <a:lnTo>
                  <a:pt x="15047" y="7199"/>
                </a:lnTo>
                <a:lnTo>
                  <a:pt x="17263" y="7199"/>
                </a:lnTo>
                <a:arcTo wR="8886" hR="21600" stAng="2440404" swAng="2830766"/>
                <a:lnTo>
                  <a:pt x="9692" y="21511"/>
                </a:lnTo>
                <a:arcTo wR="8886" hR="21600" stAng="5528830" swAng="5271170"/>
                <a:close/>
              </a:path>
              <a:path fill="darkenLess"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128830"/>
                <a:lnTo>
                  <a:pt x="9692" y="21511"/>
                </a:lnTo>
                <a:arcTo wR="8886" hR="21600" stAng="5528830" swAng="527117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8"/>
          <p:cNvSpPr/>
          <p:nvPr/>
        </p:nvSpPr>
        <p:spPr>
          <a:xfrm>
            <a:off x="71280" y="2060640"/>
            <a:ext cx="1368720" cy="31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edag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for 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7345440" y="2133720"/>
            <a:ext cx="1439640" cy="31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with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2"/>
          <p:cNvSpPr/>
          <p:nvPr/>
        </p:nvSpPr>
        <p:spPr>
          <a:xfrm rot="17909400">
            <a:off x="3399120" y="4798440"/>
            <a:ext cx="317160" cy="1270080"/>
          </a:xfrm>
          <a:prstGeom prst="upArrow">
            <a:avLst>
              <a:gd name="adj1" fmla="val 50000"/>
              <a:gd name="adj2" fmla="val 1001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3"/>
          <p:cNvSpPr/>
          <p:nvPr/>
        </p:nvSpPr>
        <p:spPr>
          <a:xfrm>
            <a:off x="4176720" y="5157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4"/>
          <p:cNvSpPr/>
          <p:nvPr/>
        </p:nvSpPr>
        <p:spPr>
          <a:xfrm rot="5400000">
            <a:off x="1316520" y="2545560"/>
            <a:ext cx="392040" cy="431640"/>
          </a:xfrm>
          <a:prstGeom prst="upArrow">
            <a:avLst>
              <a:gd name="adj1" fmla="val 50000"/>
              <a:gd name="adj2" fmla="val 275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 rot="16200000">
            <a:off x="7149240" y="2511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604960" y="633420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 Education (e.g. PG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7"/>
          <p:cNvSpPr/>
          <p:nvPr/>
        </p:nvSpPr>
        <p:spPr>
          <a:xfrm>
            <a:off x="6121440" y="5373720"/>
            <a:ext cx="2593800" cy="1295280"/>
          </a:xfrm>
          <a:custGeom>
            <a:avLst/>
            <a:gdLst>
              <a:gd name="textAreaLeft" fmla="*/ 0 w 2593800"/>
              <a:gd name="textAreaRight" fmla="*/ 2109600 w 259380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 flipH="1">
            <a:off x="71280" y="5373720"/>
            <a:ext cx="2592720" cy="1295280"/>
          </a:xfrm>
          <a:custGeom>
            <a:avLst/>
            <a:gdLst>
              <a:gd name="textAreaLeft" fmla="*/ 0 w 2592720"/>
              <a:gd name="textAreaRight" fmla="*/ 2108880 w 259272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9"/>
          <p:cNvSpPr/>
          <p:nvPr/>
        </p:nvSpPr>
        <p:spPr>
          <a:xfrm>
            <a:off x="3946680" y="5386320"/>
            <a:ext cx="86508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x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7145280" y="148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2160" y="1484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4"/>
          <p:cNvSpPr/>
          <p:nvPr/>
        </p:nvSpPr>
        <p:spPr>
          <a:xfrm>
            <a:off x="4731480" y="5373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7"/>
          <p:cNvGrpSpPr/>
          <p:nvPr/>
        </p:nvGrpSpPr>
        <p:grpSpPr>
          <a:xfrm>
            <a:off x="252360" y="4148280"/>
            <a:ext cx="5040000" cy="2592000"/>
            <a:chOff x="252360" y="4148280"/>
            <a:chExt cx="5040000" cy="2592000"/>
          </a:xfrm>
        </p:grpSpPr>
        <p:sp>
          <p:nvSpPr>
            <p:cNvPr id="488" name="Rectangle 4"/>
            <p:cNvSpPr/>
            <p:nvPr/>
          </p:nvSpPr>
          <p:spPr>
            <a:xfrm>
              <a:off x="408600" y="4148280"/>
              <a:ext cx="46270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5f55"/>
                  </a:solidFill>
                  <a:latin typeface="Calibri"/>
                </a:rPr>
                <a:t>Constrai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>
              <a:off x="779040" y="439920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>
              <a:off x="4098600" y="50562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diver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252360" y="57128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Lack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373680" y="49705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am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3045960" y="457092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Discip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1062000" y="54270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rk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>
              <a:off x="3167280" y="59983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>
              <a:off x="1507320" y="482796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>
              <a:off x="1832400" y="602676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ool Poli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>
              <a:off x="2316960" y="5198760"/>
              <a:ext cx="1620000" cy="114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rie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>
              <a:off x="3875040" y="5569920"/>
              <a:ext cx="1417320" cy="95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eme of 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>
              <a:off x="3976920" y="44564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ass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Oval 18"/>
          <p:cNvSpPr/>
          <p:nvPr/>
        </p:nvSpPr>
        <p:spPr>
          <a:xfrm>
            <a:off x="179280" y="1628640"/>
            <a:ext cx="6120000" cy="21592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acher Aut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2556000" y="3427560"/>
            <a:ext cx="215640" cy="792000"/>
          </a:xfrm>
          <a:prstGeom prst="downArrow">
            <a:avLst>
              <a:gd name="adj1" fmla="val 50000"/>
              <a:gd name="adj2" fmla="val 918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3"/>
          <p:cNvSpPr/>
          <p:nvPr/>
        </p:nvSpPr>
        <p:spPr>
          <a:xfrm>
            <a:off x="4284720" y="3427560"/>
            <a:ext cx="4753080" cy="12236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arner 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/>
          <p:cNvSpPr/>
          <p:nvPr/>
        </p:nvSpPr>
        <p:spPr>
          <a:xfrm rot="3006600">
            <a:off x="4680360" y="3175920"/>
            <a:ext cx="936720" cy="576000"/>
          </a:xfrm>
          <a:prstGeom prst="leftRightArrow">
            <a:avLst>
              <a:gd name="adj1" fmla="val 50000"/>
              <a:gd name="adj2" fmla="val 32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5724360" y="5011560"/>
            <a:ext cx="30974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ett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8"/>
          <p:cNvSpPr/>
          <p:nvPr/>
        </p:nvSpPr>
        <p:spPr>
          <a:xfrm>
            <a:off x="6156360" y="457992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951240" y="4579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i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6014160" y="29955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fe-long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919120" y="1819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eating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4"/>
          <p:cNvSpPr/>
          <p:nvPr/>
        </p:nvSpPr>
        <p:spPr>
          <a:xfrm>
            <a:off x="1045800" y="291780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ttitudes, Skills, and Knowledge (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5"/>
          <p:cNvSpPr/>
          <p:nvPr/>
        </p:nvSpPr>
        <p:spPr>
          <a:xfrm>
            <a:off x="3502440" y="19875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6"/>
          <p:cNvSpPr/>
          <p:nvPr/>
        </p:nvSpPr>
        <p:spPr>
          <a:xfrm>
            <a:off x="1188720" y="1981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1023120" y="3787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8"/>
          <p:cNvSpPr/>
          <p:nvPr/>
        </p:nvSpPr>
        <p:spPr>
          <a:xfrm flipV="1">
            <a:off x="2771640" y="3425760"/>
            <a:ext cx="2016360" cy="938160"/>
          </a:xfrm>
          <a:custGeom>
            <a:avLst/>
            <a:gdLst>
              <a:gd name="textAreaLeft" fmla="*/ 1159920 w 2016360"/>
              <a:gd name="textAreaRight" fmla="*/ 1724400 w 2016360"/>
              <a:gd name="textAreaTop" fmla="*/ 153720 h 938160"/>
              <a:gd name="textAreaBottom" fmla="*/ 37404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095" y="0"/>
                </a:lnTo>
                <a:lnTo>
                  <a:pt x="14095" y="3545"/>
                </a:lnTo>
                <a:lnTo>
                  <a:pt x="12427" y="3545"/>
                </a:lnTo>
                <a:cubicBezTo>
                  <a:pt x="5564" y="3545"/>
                  <a:pt x="0" y="7401"/>
                  <a:pt x="0" y="12158"/>
                </a:cubicBezTo>
                <a:lnTo>
                  <a:pt x="0" y="21600"/>
                </a:lnTo>
                <a:lnTo>
                  <a:pt x="5180" y="21600"/>
                </a:lnTo>
                <a:lnTo>
                  <a:pt x="5180" y="12158"/>
                </a:lnTo>
                <a:cubicBezTo>
                  <a:pt x="5180" y="10200"/>
                  <a:pt x="8425" y="8613"/>
                  <a:pt x="12427" y="8613"/>
                </a:cubicBezTo>
                <a:lnTo>
                  <a:pt x="14095" y="8613"/>
                </a:lnTo>
                <a:lnTo>
                  <a:pt x="1409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LANGUAGE TEACH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utonomy in ELT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vs. 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95280" y="170028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0" name="Picture 90" descr="MC900326908[1]"/>
          <p:cNvPicPr/>
          <p:nvPr/>
        </p:nvPicPr>
        <p:blipFill>
          <a:blip r:embed="rId1"/>
          <a:stretch/>
        </p:blipFill>
        <p:spPr>
          <a:xfrm>
            <a:off x="1692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1" descr="MC900326908[1]"/>
          <p:cNvPicPr/>
          <p:nvPr/>
        </p:nvPicPr>
        <p:blipFill>
          <a:blip r:embed="rId2"/>
          <a:stretch/>
        </p:blipFill>
        <p:spPr>
          <a:xfrm>
            <a:off x="759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2" descr="MC900326908[1]"/>
          <p:cNvPicPr/>
          <p:nvPr/>
        </p:nvPicPr>
        <p:blipFill>
          <a:blip r:embed="rId3"/>
          <a:stretch/>
        </p:blipFill>
        <p:spPr>
          <a:xfrm>
            <a:off x="615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3" descr="MC900326908[1]"/>
          <p:cNvPicPr/>
          <p:nvPr/>
        </p:nvPicPr>
        <p:blipFill>
          <a:blip r:embed="rId4"/>
          <a:stretch/>
        </p:blipFill>
        <p:spPr>
          <a:xfrm>
            <a:off x="4716360" y="34290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4" descr="MC900326908[1]"/>
          <p:cNvPicPr/>
          <p:nvPr/>
        </p:nvPicPr>
        <p:blipFill>
          <a:blip r:embed="rId5"/>
          <a:stretch/>
        </p:blipFill>
        <p:spPr>
          <a:xfrm>
            <a:off x="327672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5" descr="MM900336396[1]"/>
          <p:cNvPicPr/>
          <p:nvPr/>
        </p:nvPicPr>
        <p:blipFill>
          <a:blip r:embed="rId6"/>
          <a:stretch/>
        </p:blipFill>
        <p:spPr>
          <a:xfrm>
            <a:off x="183528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6" descr="MM900336396[1]"/>
          <p:cNvPicPr/>
          <p:nvPr/>
        </p:nvPicPr>
        <p:blipFill>
          <a:blip r:embed="rId7"/>
          <a:stretch/>
        </p:blipFill>
        <p:spPr>
          <a:xfrm>
            <a:off x="7740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7" descr="MM900336396[1]"/>
          <p:cNvPicPr/>
          <p:nvPr/>
        </p:nvPicPr>
        <p:blipFill>
          <a:blip r:embed="rId8"/>
          <a:stretch/>
        </p:blipFill>
        <p:spPr>
          <a:xfrm>
            <a:off x="630072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8" descr="MM900336396[1]"/>
          <p:cNvPicPr/>
          <p:nvPr/>
        </p:nvPicPr>
        <p:blipFill>
          <a:blip r:embed="rId9"/>
          <a:stretch/>
        </p:blipFill>
        <p:spPr>
          <a:xfrm>
            <a:off x="493236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9" descr="MM900336396[1]"/>
          <p:cNvPicPr/>
          <p:nvPr/>
        </p:nvPicPr>
        <p:blipFill>
          <a:blip r:embed="rId10"/>
          <a:stretch/>
        </p:blipFill>
        <p:spPr>
          <a:xfrm>
            <a:off x="349236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Grammar translation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ed teaching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Direct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ind examples from every day vocabulary and sent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dio-lingual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llow model dialogue and teach through repetition &amp; drill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ve Language Teach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It is unified but broadly based, theoretically well informed set of tenets about the nature of language learning and teaching.” (Brown H.D.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learning activities and tasks involving real-life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based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’s (1998) concept of TB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 is prim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on problem to sol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lationship to comparable real-world activ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com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Assessment of the task in terms of outco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elect authentic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ummary (Autonomy vs. Method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95280" y="162864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igned &amp; prepared in ad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xamples from every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petition &amp; dri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 learning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he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8" name="Picture 35" descr="MC900434713[1]"/>
          <p:cNvPicPr/>
          <p:nvPr/>
        </p:nvPicPr>
        <p:blipFill>
          <a:blip r:embed="rId1"/>
          <a:stretch/>
        </p:blipFill>
        <p:spPr>
          <a:xfrm>
            <a:off x="615636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6" descr="MC900434713[1]"/>
          <p:cNvPicPr/>
          <p:nvPr/>
        </p:nvPicPr>
        <p:blipFill>
          <a:blip r:embed="rId2"/>
          <a:stretch/>
        </p:blipFill>
        <p:spPr>
          <a:xfrm>
            <a:off x="752472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7" descr="MC900434713[1]"/>
          <p:cNvPicPr/>
          <p:nvPr/>
        </p:nvPicPr>
        <p:blipFill>
          <a:blip r:embed="rId3"/>
          <a:stretch/>
        </p:blipFill>
        <p:spPr>
          <a:xfrm>
            <a:off x="3132000" y="4724280"/>
            <a:ext cx="646200" cy="677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8" descr="MC900432537[1]"/>
          <p:cNvPicPr/>
          <p:nvPr/>
        </p:nvPicPr>
        <p:blipFill>
          <a:blip r:embed="rId4"/>
          <a:stretch/>
        </p:blipFill>
        <p:spPr>
          <a:xfrm>
            <a:off x="370836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9" descr="MC900432537[1]"/>
          <p:cNvPicPr/>
          <p:nvPr/>
        </p:nvPicPr>
        <p:blipFill>
          <a:blip r:embed="rId5"/>
          <a:stretch/>
        </p:blipFill>
        <p:spPr>
          <a:xfrm>
            <a:off x="1692360" y="486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0" descr="MC900432537[1]"/>
          <p:cNvPicPr/>
          <p:nvPr/>
        </p:nvPicPr>
        <p:blipFill>
          <a:blip r:embed="rId6"/>
          <a:stretch/>
        </p:blipFill>
        <p:spPr>
          <a:xfrm>
            <a:off x="4643280" y="48704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SHAR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Hen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3 &amp; S6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rilling on TSA/ HKCEE / HKALE / HKDSE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No 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1, S2, S4, S5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ess Drilling on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lexible group activities &amp;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WHAT IS YOUR GOA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 an English Teacher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stralian Primary School 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 and teaching materials from EDB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 Program – PLP-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/Writing Program – PLP-R/W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 in group activities &amp; games with P1 &amp; P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ouch the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ailor-made chess bo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aseball score c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VC (Consonants Vowels Consonants ) word g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inging the “left &amp; right” songs, letter songs,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Feli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ime lim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, lesson time, assessment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f you believe, you wil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ncourage refl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hat” to express before “how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ultural: teacher’s responsibility (</a:t>
            </a: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Takagi and Chu 201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4839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cheme of work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rm coordinators deliver the scheme of work to form teachers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Have to finish teaching the units and specific items within the assigned period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worksheets, hangouts and any other teaching materials other than the textbooks in order to fit the needs of their own class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lways encourage and reinforce students that they are capable and smart enough to learn mo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 more challenging tasks and teach more advanced level i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ve they are capable so they are willing to accept extra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velop a habit that reading Young Post and write down new vocabulary items on their ‘Learning Log’ every da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ubmit news summary and reflections which are not assigned by the teacher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pply those new items in their writing and speaking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Edm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reating spaces out of constrai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 Junior High if possi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ry to pick the essentials to teach from the Scheme of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pare as much free time to discuss the weekly new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er autonomy – true believer of self-directed lear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Weekly reading and writing as a hab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ading (Authentic Materials – One news article weekl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riting (News report - encourage students’ reflectio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sist on marking with feedbacks on their weekly writing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am-oriented culture as the external dri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ckground of the scho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and 3 secondary scho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onnection between the local school and the American Lutheran Church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artment of International Interfa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erican volunteers visit the campus by promoting Christianity and English learning through playing games, singing songs, visiting local families, participating in the lessons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 promotes learner autonomy through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pport by the Princip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articipating several activities with the volunteers from the US (sightseeing, dining, worshipping, etc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unication &gt; learning English for ex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 (Senior secondary scho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ciety: Expect HKDSE takers have certain proficiency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arents: Expect the school has more drilling and practi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rriculum: Senior form ( preparing for the HKDS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me constraint : Remedial classes for different subjec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asibl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ior for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nguage a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eciation and enjoyment of the langu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studies lesson (culture, living style, activitie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cebook connection with the US volunte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 everyone in the school has the opportunity to participat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le to create the space to enhance both teacher and student autonomy in junior leve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hancing the autonomy in their early age would strength the possibility of the development of whole-lif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AUTONOM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reating spac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DISCU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How can you create more spaces for yourself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REFERENC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  <a:ea typeface="新細明體"/>
              </a:rPr>
              <a:t>Referenc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(2010). Teacher education and teacher autonomy: Creating spaces for experimentation in secondary school English Language teaching. Language Teaching Research, 14(3), 259-27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&amp; Huang (2008). Autonomy in the transition from foreign language learning to foreign language teaching. DELTA: Revista de Documentacao de Estudos em Linguistica Teorica e Aplicada, 421-43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rown, H. D. (2001). Teaching by principles: An interactive approach to language pedagogy (2nd Edition). New York: Addison Wesley Longm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S., Takagi, A., Chu, M.P. (2010)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moting Learner Autonomy: Student Perceptions of Responsibilities in a Language Classroom in East Asia. </a:t>
            </a: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Educational Perspectives v4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, P. (1998). A cognitive approach to language learning. Oxford: Oxford University Pr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mith R.C. (2003). Teacher education for teacher-learner autonomy. Centre for English Language Teacher Education (CELTE). University of Warwick. U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~~~Thank you~~~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16000" y="9079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7020000" y="2565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udent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"/>
          <p:cNvSpPr/>
          <p:nvPr/>
        </p:nvSpPr>
        <p:spPr>
          <a:xfrm>
            <a:off x="179280" y="4221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k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395280" y="234936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5148360" y="1341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1"/>
          <p:cNvSpPr/>
          <p:nvPr/>
        </p:nvSpPr>
        <p:spPr>
          <a:xfrm>
            <a:off x="1619280" y="350028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"/>
          <p:cNvSpPr/>
          <p:nvPr/>
        </p:nvSpPr>
        <p:spPr>
          <a:xfrm>
            <a:off x="5364000" y="49417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2411280" y="1989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4"/>
          <p:cNvSpPr/>
          <p:nvPr/>
        </p:nvSpPr>
        <p:spPr>
          <a:xfrm>
            <a:off x="2989440" y="5013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ool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851280" y="2924280"/>
            <a:ext cx="2881440" cy="28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6622920" y="3860640"/>
            <a:ext cx="2521080" cy="242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e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6804000" y="1052640"/>
            <a:ext cx="1943280" cy="180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11280" y="1557360"/>
            <a:ext cx="5257800" cy="1584360"/>
          </a:xfrm>
          <a:prstGeom prst="cloudCallout">
            <a:avLst>
              <a:gd name="adj1" fmla="val -16092"/>
              <a:gd name="adj2" fmla="val 74250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son (2000) ‘right to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free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924360" y="2997360"/>
            <a:ext cx="5041800" cy="1728720"/>
          </a:xfrm>
          <a:prstGeom prst="cloudCallout">
            <a:avLst>
              <a:gd name="adj1" fmla="val -25032"/>
              <a:gd name="adj2" fmla="val 67449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(1995) ‘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enga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lf-directed teach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1042920" y="5229360"/>
            <a:ext cx="5184720" cy="1368360"/>
          </a:xfrm>
          <a:prstGeom prst="cloudCallout">
            <a:avLst>
              <a:gd name="adj1" fmla="val 10041"/>
              <a:gd name="adj2" fmla="val -8178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ith (2000) ‘teachers’ autonomy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ar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oki (2000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autonomous teacher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freed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sponsibility t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make choic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concern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one’s own teachin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Learn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Would it be great if students can learn by themselve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isconception: ‘learning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without a teache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(1991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for tak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of learning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lassroom-based approach to the development of learner autonomy (Sinclair 200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inence of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learner autonomy as a go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oting learn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ructuring and scaffold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flective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ing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pedagogy for autonom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re to learn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take 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ay need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let g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68360" y="580536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  <a:ea typeface="新細明體"/>
              </a:rPr>
              <a:t>Reflection: When to let go, when to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12720" y="1600200"/>
          <a:ext cx="8423280" cy="5141880"/>
        </p:xfrm>
        <a:graphic>
          <a:graphicData uri="http://schemas.openxmlformats.org/drawingml/2006/table">
            <a:tbl>
              <a:tblPr/>
              <a:tblGrid>
                <a:gridCol w="2808360"/>
                <a:gridCol w="2806560"/>
                <a:gridCol w="2808360"/>
              </a:tblGrid>
              <a:tr h="56340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SYCHOLO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ECHN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rong sense of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rsonal responsi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ontinuous reflection and analy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dagogical skill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ac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unifor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aff development programs &amp;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classroom observ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72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eedom from control by oth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professional action o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06:20Z</dcterms:created>
  <dc:creator>Henry Kwok</dc:creator>
  <dc:description/>
  <dc:language>en-US</dc:language>
  <cp:lastModifiedBy>St. Paul's College</cp:lastModifiedBy>
  <dcterms:modified xsi:type="dcterms:W3CDTF">2012-02-27T03:37:28Z</dcterms:modified>
  <cp:revision>47</cp:revision>
  <dc:subject/>
  <dc:title>Slide 1</dc:title>
</cp:coreProperties>
</file>